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65224"/>
        <c:axId val="93428599"/>
      </c:barChart>
      <c:catAx>
        <c:axId val="27565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8599"/>
        <c:crosses val="autoZero"/>
        <c:auto val="1"/>
        <c:lblAlgn val="ctr"/>
        <c:lblOffset val="100"/>
        <c:noMultiLvlLbl val="0"/>
      </c:catAx>
      <c:valAx>
        <c:axId val="93428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5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4B6-6AFF-486C-907E-5A2D6E35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81C-D9FC-4D0F-8564-59FFE37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DF4-33DA-4A2D-BE2F-EEEB88DE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262-6B17-4639-9574-4520A070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6E0-979A-494C-9E18-0255904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6BB-0EBC-4150-8D30-E5A72242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A10-D12B-45F9-A9FA-5E01A4D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705-88B0-40BD-BBE7-DD97FEE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701-9F01-45D0-81BF-AD590F4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DC6-CCCB-4A24-B6DB-74492B7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0B9-EB74-4F03-B5D0-323F5B0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B85-0DA5-48AA-8B42-182D6D9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AFCF-3269-43CB-969E-C4777D8CE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