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62706"/>
        <c:axId val="86169860"/>
      </c:barChart>
      <c:catAx>
        <c:axId val="89562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69860"/>
        <c:crosses val="autoZero"/>
        <c:auto val="1"/>
        <c:lblAlgn val="ctr"/>
        <c:lblOffset val="100"/>
        <c:noMultiLvlLbl val="0"/>
      </c:catAx>
      <c:valAx>
        <c:axId val="86169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62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69D-DDA5-4792-BA98-35EEA8D6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712-14EC-4E27-8688-A4BDFA7C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14C-A89B-41F5-A990-C4A26A3D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6B8-E645-45E5-8875-3AEBF366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093-C8F7-48A4-BFD0-1755E771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C3A-1610-42A4-AAB4-343DE0D7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34C-A41B-49BA-81BA-ED73BC64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DF1-A915-4A01-B17F-76ED9D38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EF20-D3FC-4586-A98F-C6B7E0B6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9AA-5085-466D-A144-FD5A80BB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17D-7F7D-4240-AB4E-CF604827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209-57C3-44F9-AD3C-6EF6CEC8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51A71-A7BB-48E5-8D9E-0B52713F80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