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0948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Windows 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Reg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n Petrus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or/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’Reilly &amp; Associ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the Reg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736640"/>
            <a:ext cx="9142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registry can can hav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e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alue entr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named value p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19400" y="3228840"/>
            <a:ext cx="4867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the Reg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289548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D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2808360"/>
            <a:ext cx="396252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EXPAND_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_MULTI_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69960" y="1798560"/>
            <a:ext cx="6254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value has a particular data 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in32 Registry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ial” entry point to th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” versions (from Win16 API) -- for example, RegOpe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” functions for Win32 API -- for example, RegOpenKey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Opening a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an existing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ERROR_FILE_NOT_FOUND other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93640" y="1646280"/>
            <a:ext cx="5803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OpenKey(), RegOpenKeyEx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2120" y="4876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an existing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new key (and all intermediate ke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9960" y="4084560"/>
            <a:ext cx="6164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reateKey(), RegCreateKeyEx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Opening a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438280"/>
            <a:ext cx="777240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 a remot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typ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onnectRegistry(LPTSTR lpMachineName, HKEY hKey, PHKEY phkResult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3640" y="1646280"/>
            <a:ext cx="3841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onnectRegistry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Gett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69960" y="1646280"/>
            <a:ext cx="35924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(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9960" y="2332080"/>
            <a:ext cx="713268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subkeys (immediate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value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of longest ke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of longest valu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of longest data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Gett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69960" y="1646280"/>
            <a:ext cx="80550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() Proto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InfoKey(HKEY hKey, LPCTSTR lpcbCla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DWORD lpReserved, LPDWORD lpcSubkey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DWORD lpcbMaxSubKeyL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DWORD lpcbMaxClassL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DWORD lpcValu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DWORD lpcbMaxValueNameL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DWORD lpcbMaxValueL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DWORD lpcbSecurityDescript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DWORD lpftLastWriteTime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Enumerating 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eration function when keys not known in 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name of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3640" y="1646280"/>
            <a:ext cx="6097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EnumKey(), RegEnumKeyEx(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4520" y="289080"/>
            <a:ext cx="9067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indows Reg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7680" y="1157400"/>
            <a:ext cx="4587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Windows regi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7680" y="1843200"/>
            <a:ext cx="2732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the regi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7680" y="2529000"/>
            <a:ext cx="4152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the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17680" y="3290760"/>
            <a:ext cx="2573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gistry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17680" y="4052880"/>
            <a:ext cx="3798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is the registry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7680" y="4815000"/>
            <a:ext cx="333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ying on the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7680" y="554688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Enumerating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valu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data typ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length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data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typ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EnumValue(HKEY hKey, DWORD dwIndex, LPTSTR lpValueName, LPDWORD lpcbValueName, LPDWORD lpReserved, LPDWORD lpdwTyp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BYTE lpData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93640" y="1189080"/>
            <a:ext cx="31640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EnumValue(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Getting a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data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93640" y="1646280"/>
            <a:ext cx="6773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Value(), RegQueryValueEx(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Getting Multiple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taneous retrieval of data belonging to multiple value entries of the same ke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documente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l for remote registr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93640" y="1646280"/>
            <a:ext cx="47656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QueryMultipleValues(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Writing a Va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ew value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write an existing value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dat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93640" y="1646280"/>
            <a:ext cx="5781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SetValue(), RegSetValueEx(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0" y="60948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Deleting a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4382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s a key regardless of its usage cou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inNT, key must have no sub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DeleteKey(HKEY hKey, LPCTSTR lpSubkey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93640" y="1646280"/>
            <a:ext cx="2960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DeleteKey(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60948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Deleting a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4382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s a value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ty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DeleteKey(HKEY hKe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CTSTR lpValueName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3640" y="1646280"/>
            <a:ext cx="32529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DeleteValue(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Windows Regist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sitory of configuration and stat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the file system, a hierarchical inverse tree-lik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most kernel objects, structure is opaque (accessible only through Win32 A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 API: Closing a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43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s” an open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rements its usage cou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type:  RegCloseKey(HKEY hKey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3640" y="1646280"/>
            <a:ext cx="27129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CloseKey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gistry API: Some Gotch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omic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registry access under Win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Is the Registry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rch for data in th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for absence of keys, values, data in th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 rea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perly interpreted by Windows or an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Is the Registry 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ettings -- write to HKLM\Software\&lt;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\&lt;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ettings -- write to HKCU and possibly HKU\.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Spying on the Regist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46280" y="1874880"/>
            <a:ext cx="5230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py32 and similar ut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46280" y="2560680"/>
            <a:ext cx="7462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p an application’s calls to the Win32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Spying on the Regist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46280" y="1874880"/>
            <a:ext cx="3616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Mon, RegSpy9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46280" y="2637000"/>
            <a:ext cx="5518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p kernel calls to th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46280" y="3322800"/>
            <a:ext cx="7358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calls to the registry API made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half of an application by Windows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ying on the Reg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27432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pplication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in the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is the registry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I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and debugging a registry-enabl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3640" y="1722600"/>
            <a:ext cx="1889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S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6280" y="1646280"/>
            <a:ext cx="78343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indows registry is a robust, high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database for storing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ta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641760" y="2033640"/>
            <a:ext cx="1339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ar too f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22240" y="2560680"/>
            <a:ext cx="76420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n Petrusha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ide the Windows 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O’Reilly &amp; Associ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nter Born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ide the Microsof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’Reilly 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ora.com/catalog/winre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 &amp;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the Regist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36232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in ASC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ar organization of keys, nam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limitations (64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standards, conformity to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for computing in a “laissez faire”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69960" y="1646280"/>
            <a:ext cx="6651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s with initialization (.INI) fi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the Regist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362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exible hierarchic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 databas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69960" y="1646280"/>
            <a:ext cx="4597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the regi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69960" y="4237200"/>
            <a:ext cx="817560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role in the operation of the 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systems (“the glue that holds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gether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the Regist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les of the WinNT Reg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770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the Regist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les of the Win95 Reg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467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the Reg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2057400"/>
            <a:ext cx="9142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x top-level keys in Win95, WinNT 4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952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the Reg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736640"/>
            <a:ext cx="9142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heoretically infinite number of nested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2886120"/>
            <a:ext cx="62485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n Petrusha</dc:creator>
  <dc:description/>
  <dc:language>en-US</dc:language>
  <cp:lastModifiedBy>Ron Petrusha</cp:lastModifiedBy>
  <cp:revision>0</cp:revision>
  <dc:subject/>
  <dc:title>Using the Windows NT System Registry</dc:title>
</cp:coreProperties>
</file>