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17850"/>
        <c:axId val="40376742"/>
      </c:barChart>
      <c:catAx>
        <c:axId val="55017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76742"/>
        <c:crosses val="autoZero"/>
        <c:auto val="1"/>
        <c:lblAlgn val="ctr"/>
        <c:lblOffset val="100"/>
        <c:noMultiLvlLbl val="0"/>
      </c:catAx>
      <c:valAx>
        <c:axId val="403767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17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5F3-FFE2-44A0-A559-D7B9FAD9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4BE-494D-450D-858C-01A10A7D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6CE1-2A69-460E-9CD1-FEFA070B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35E-A1A7-4DA1-9A60-236E994E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6E7-CD5B-4F9F-944A-663F96FE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FE4-A071-4B33-8B3D-AD0B9624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173-E0E8-48CE-BC6C-3CDF1B79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D82-E151-43AA-81DF-5174D1A9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779-04DA-44C1-9F35-C6D24AE6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EB3-FAF0-4E0E-B86D-CED4D005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A68-E4F8-4ECF-83A5-A4538B54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4A31-D1A4-4FAD-AA4F-09EE8E3F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6E50C-0E79-47D6-B78D-CA9696A873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