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46773"/>
        <c:axId val="48370199"/>
      </c:barChart>
      <c:catAx>
        <c:axId val="47046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70199"/>
        <c:crosses val="autoZero"/>
        <c:auto val="1"/>
        <c:lblAlgn val="ctr"/>
        <c:lblOffset val="100"/>
        <c:noMultiLvlLbl val="0"/>
      </c:catAx>
      <c:valAx>
        <c:axId val="48370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46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6C1-7C2F-455B-ADA2-B2D827EA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10A-45DF-48CB-B68A-9A6524ED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73B-D1FA-4CD5-A17A-28F3A9E1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04E-BD19-48FC-90F0-4EAE8390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09D-0DF4-4B56-A3D2-6ABE8865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D27-C4D2-499C-A54D-4E5C520D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E38-7320-45E2-97AB-DFC42B06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9A85-58CF-494D-9F7B-6A93BCCA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F26-81CE-4A09-B1EF-3FC66972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233-A047-4A1F-8AF9-0D5AAADD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FCD-E2A8-44C3-8C73-7B6809DE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61F-A89F-44D4-9CB5-D9F9B0DE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1ACF9-4BC4-4FD0-9AA3-0C32CFB675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