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67853"/>
        <c:axId val="28736554"/>
      </c:barChart>
      <c:catAx>
        <c:axId val="2856785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736554"/>
        <c:crosses val="autoZero"/>
        <c:auto val="1"/>
        <c:lblAlgn val="ctr"/>
        <c:lblOffset val="100"/>
        <c:noMultiLvlLbl val="0"/>
      </c:catAx>
      <c:valAx>
        <c:axId val="287365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6785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31B6-0209-427F-BEBF-87E5FCF22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F114-1843-4CA2-B1EC-6E1F47E9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B10-B242-417C-8A4F-0348DA946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37017-37F0-41CA-8249-BA275FACE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A01BC-2F1A-4F55-B507-7779D5C7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4E70-B57F-43BC-861B-7C418CD0B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1A96D-EE11-428C-B469-4156C11DB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B3DD-4F62-4A3E-9686-5F7B24D9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AE96A-9D93-4319-AF35-91683422C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1583-EDB0-41A6-BD86-FD5E9652B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7AEB0-955C-4DCA-995D-8C1190E10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7A8FC-8C06-460A-BA16-41A22249A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D89F94-E8FD-4263-8781-2CF1B56CB84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